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AD47-12F8-47F0-ABD6-F54977EC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AE77-9BDA-48D9-819D-0A052947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2DD1-7F6B-4BB4-A21E-D3A018D8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3B2D-7FD6-46AB-8D50-0825902B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1EBE-C832-4FB0-8D17-40544819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CFD9-93BF-4A43-BDB4-0E9807BF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D187-AC0A-42EC-BBCF-62B43806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BD2D-3A2C-42FC-B75F-F43A4B50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24F7-3280-4D2E-8462-6E46D52B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E7FF-F4CB-4C28-8091-6EB67855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B50D-DED3-4B96-9F00-E245C8D3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AF06-3D34-4350-8CAD-98D35031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35D0-4EE9-4F86-B1C6-A9CD8835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477F-1BCD-43D9-B622-D24A9499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607F-88C6-4C89-9316-75491B84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3385-72D1-427B-A92B-0C4B638F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77B1-1C6D-442F-AC95-39058FD0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F1AC-8363-49F0-8F52-9B4B6761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1C62-8CAB-4861-B7A0-6D92C49B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5419-2064-4566-87AC-0961989F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B25-BEE6-4219-88B7-3CE5C927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37AB-875E-4D09-9BEC-4F0D55D3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5D28-9C95-464B-A9B6-A70B95F0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BD1A-3A14-4076-A2DA-FD330F0D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1E6F-4A21-4C92-B9CD-3824AB06F9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C96A-34D2-4140-843D-8BED2231EA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SCL_mtbe1" descr=""/>
          <p:cNvPicPr/>
          <p:nvPr/>
        </p:nvPicPr>
        <p:blipFill>
          <a:blip r:embed="rId1"/>
          <a:srcRect l="8091" t="6939" r="8592" b="5187"/>
          <a:stretch/>
        </p:blipFill>
        <p:spPr>
          <a:xfrm>
            <a:off x="228600" y="603360"/>
            <a:ext cx="8153280" cy="6254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gure 1. Geographic Distribution of Study Sit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848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 9, Frequency of Contaminant Detection in Soi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998720"/>
          <a:ext cx="9144000" cy="379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98720"/>
                    <a:ext cx="9144000" cy="37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066680" y="762120"/>
            <a:ext cx="7772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585324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# of sites sampled for MtBE 43; other oxygenates - 34; 1,2-DCA - 24; EDB - 23; TPHg - 35; Benzene - 3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 10, Frequency of Detection of TBA in Groundwater at Operating UST Facilit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240" y="2733840"/>
          <a:ext cx="891864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2733840"/>
                    <a:ext cx="891864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0" y="114300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2286000"/>
            <a:ext cx="7086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BA concentrations up to 27,000 p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sites sampled: 1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838080"/>
            <a:ext cx="5639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 11, MtBE – TBA Corre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1974960"/>
          <a:ext cx="922500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74960"/>
                    <a:ext cx="92250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438280" y="1905120"/>
            <a:ext cx="4876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BE detected at 62 sit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BA detected at 13 of these si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8960" y="6854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 12, TPHg Concentrations in GW at Operating UST Facilit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09480" y="2057400"/>
          <a:ext cx="7986960" cy="41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7986960" cy="41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55400" y="617220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# of sites sampled for TPHg in groundwater: 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9907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 13, MtBE – TPHg Corre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4520" y="3492360"/>
          <a:ext cx="9075960" cy="32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20" y="3492360"/>
                    <a:ext cx="9075960" cy="32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2434680" y="1752480"/>
            <a:ext cx="47131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tBE/TPHg in groundwater analyzed at 51 sit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sites - MtBE and TPHg were N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 sites - both MtBE and TPHg detect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sites  - MtBE detected but not TPHg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sites - TPHg detected but not MtB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8960" y="1066680"/>
            <a:ext cx="7467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 14, Benzene Concentrations in Groundwater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2019240"/>
          <a:ext cx="914400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9240"/>
                    <a:ext cx="914400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5410080" y="2209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 sites samp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914400"/>
            <a:ext cx="5943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 15, Benzene – MtBE Corre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-69840" y="3352680"/>
          <a:ext cx="910116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9840" y="3352680"/>
                    <a:ext cx="910116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2057400" y="1828800"/>
            <a:ext cx="53341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tBE/benzene in groundwater analyzed at 54 sit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 sites - both MtBE and benzene were 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 sites – both TPHg and benzene det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 sites - benzene detected, but not MtB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sites – MtBE detected but not benz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 1, High Threat Site Distribution Based on Loc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752480"/>
          <a:ext cx="9144000" cy="483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8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685800" y="20574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cf0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53 “high threat” sites were issued requests to conduct MtBE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6002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9144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 2, Frequency of Choosing MtBE Monitoring Op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2243160"/>
          <a:ext cx="8758080" cy="46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43160"/>
                    <a:ext cx="8758080" cy="46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762120" y="60199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# of sites required to monitor for MtBE: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 3, Samples Analyzed for Oxygenat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19240" y="2538360"/>
          <a:ext cx="892476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2538360"/>
                    <a:ext cx="89247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8380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 4, MtBE Concentrations in GW at Operating     UST Facilit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7760" y="1905120"/>
          <a:ext cx="9066240" cy="45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60" y="1905120"/>
                    <a:ext cx="906624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57200" y="6248520"/>
            <a:ext cx="54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# of sites monitored for MtBE: 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 5, MtBE Concentrations in Soil at Operating UST Facilit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2036880"/>
          <a:ext cx="9144000" cy="47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36880"/>
                    <a:ext cx="9144000" cy="47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2438280" y="19051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3 sites sampl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 6, Correlation between MtBE in Soil and GW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3581280"/>
          <a:ext cx="9051840" cy="25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81280"/>
                    <a:ext cx="905184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228600" y="838080"/>
            <a:ext cx="868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752480"/>
            <a:ext cx="6540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tBE was analyzed in both soil and groundwater samples at 40 sit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sites - MtBE was ND in soil and ground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sites - MtBE was detected in soil and ground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 sites - MtBE detected in groundwater but not in so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site - MtBE detected in soil but not in ground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6095880"/>
            <a:ext cx="8763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ndwater sampling is more reliable method for MtBE investigation than soil samplin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9140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 7, Depth to Water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2036880"/>
          <a:ext cx="9144000" cy="47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36880"/>
                    <a:ext cx="9144000" cy="47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7924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 8, Frequency of Contaminant Detection in GW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2057400"/>
          <a:ext cx="91440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7400"/>
                    <a:ext cx="91440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0" y="6172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# of sites sampled for MtBE - 117; TBA &amp; TAME – 114; EtBE &amp; DIPE – 115; 1,2-DCA - 50; EDB - 43; TPHg - 51; Benzene-5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20:46:49Z</dcterms:created>
  <dc:creator>Barbara Sieminski</dc:creator>
  <dc:description/>
  <dc:language>en-US</dc:language>
  <cp:lastModifiedBy>Barbara Sieminski</cp:lastModifiedBy>
  <dcterms:modified xsi:type="dcterms:W3CDTF">2004-11-16T23:52:43Z</dcterms:modified>
  <cp:revision>323</cp:revision>
  <dc:subject/>
  <dc:title>MTBE PROJECT</dc:title>
</cp:coreProperties>
</file>